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06DDE-D60D-47D9-9E89-6D409AE5E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1B1B9-422D-4816-A03C-82E234264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C1046-768C-4496-9C5C-9F27A08C8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FFF8D-3435-4A57-A514-7DB7F7838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5D111-6175-4B82-B0C8-A1242A13C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B427C-53C1-4857-8369-8796A8BDD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CB322-1EDC-4734-8626-DD39F1F9C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294A4-AAAD-4C85-B3FD-C746CB546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2D965-E07A-40D8-A362-97A5D770E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C5894-6C70-4A98-8DB2-2A381CEA6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7A9E1-F206-4B92-B1BC-8885A9B81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ABB10-33B7-447F-BC8D-491E997FC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5FBD7-0057-4802-A96D-788ED37F0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6DB6A-C74F-4029-BA5B-2ECDE7727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DC529-DBBE-4032-BB1D-17541FF80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36AFE-4251-4BF0-B4C7-D84D9C033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316E0-1CD7-4551-8AE1-711BD3273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30E34-A09F-43D6-81EE-EA54FFEE8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31D84-8EDF-4018-985E-B40483A7E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B5B1F-CA58-4C3A-8A66-380A6B0CB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A99F6-318F-4BA1-9C55-AC13125C5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CE011-F0CE-4D60-BC37-9A67A5C55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BEA52-3D97-4D70-A8BD-542BB7A4D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FDD5D-FF8C-4BDE-A82B-2876500AC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241B5-5E90-4CEF-BA3F-C0CE92DF2F55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A63E1-F1E0-4DB7-9F61-D845CC88607D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7989840" cy="1886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000000"/>
                </a:solidFill>
                <a:latin typeface="Verdana"/>
              </a:rPr>
              <a:t>Desobediencia organizada y caída del Estado excluyent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Verdana"/>
              </a:rPr>
              <a:t>Prof. Marco Moren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4264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Argument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50920" y="1844280"/>
            <a:ext cx="835344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62120" indent="-7621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A fines del siglo XIX y en las primeras décadas del XX, quienes padecían la exclusión comenzaron, de distintas maneras, a alterar el orden creado por las oligarquía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76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76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cc0000"/>
                </a:solidFill>
                <a:latin typeface="Verdana"/>
              </a:rPr>
              <a:t>2.</a:t>
            </a: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Los “rotos” tenias razones: la exclusión ya no solo significaba dejarlos al margen de una realidad de privilegios, sino perjudicarlos y, a través del monopolio del Estado, darles sanción institucional, en todo el territorio, a las situaciones de miseria y explotació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76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Argument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9280" y="191592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cc0000"/>
                </a:solidFill>
                <a:latin typeface="Verdana"/>
              </a:rPr>
              <a:t>3.</a:t>
            </a:r>
            <a:r>
              <a:rPr b="0" lang="es-MX" sz="24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En la misma medida en que los “rotos”, a través de sus organizaciones y huelgas, cuando no por su simple presencia, comenzaron a hacerse cada vez más visibles y molestos en el orden que las oligarquías habían creado y querían preservar, fueron siendo brutalmente reprimido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a) La ilusión de la legitimid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1885 voto un 3,2 % de la población total; un 3,6 en 1888; un 8,6 en 1912 y un 4,4 en 1920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Este numero de votantes bastaba a las oligarquías de la época para suponer que su monopolio estatal era legitimo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400" spc="-1" strike="noStrike">
                <a:solidFill>
                  <a:srgbClr val="000000"/>
                </a:solidFill>
                <a:latin typeface="Verdana"/>
              </a:rPr>
              <a:t>b) Miseria, desobediencia y represió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66280" y="1844640"/>
            <a:ext cx="8001000" cy="41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En el Chile del cambio de siglo, la realidad social conocida y aceptada por las oligarquías se modificara significativament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En la década del 1920, la masividad de la organización obrera dejo en evidencia no solo que la represión era ya un mecanismo ineficaz, sino que también que la institucionalidad era insuficiente, y sobre todo, que el Estado ya no podía seguir operando sobre una matriz excluyent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7T22:22:02Z</dcterms:created>
  <dc:creator>mmorenop</dc:creator>
  <dc:description/>
  <dc:language>en-US</dc:language>
  <cp:lastModifiedBy>Clases</cp:lastModifiedBy>
  <dcterms:modified xsi:type="dcterms:W3CDTF">2010-05-31T14:27:23Z</dcterms:modified>
  <cp:revision>35</cp:revision>
  <dc:subject/>
  <dc:title>La compleja herencia del siglo XIX</dc:title>
</cp:coreProperties>
</file>